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898A-286B-4A60-A2AC-59B717E85A10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1F64-440B-4EEB-A3D2-B65C8AC7E8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D642-6906-44B3-B2E2-6A5C3747BD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4A5E-AB03-4555-84EB-80F3C6B89DC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A6E-FFE5-4E4C-8E04-84394E4106F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A8C5-B54F-4FCF-A815-F4D6214AB6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7EB4-43B1-4181-83AA-E72E2A38BC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73BC-5B0D-473C-B24B-B677EE140ED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333-5891-4899-BC53-09BB2691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C5B-2021-478A-ACC4-1EC5C812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FC2-0839-4EF7-8433-7179A8FC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503-1311-4C7B-8107-E61D35EE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666-11A0-40C5-96D0-B62BA71E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2E7-F10E-4878-8543-C0A01ED1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316-52E6-4F22-9782-68A41048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D5A-CA26-46FE-A5A2-B70E63DD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F12-FF42-4560-8DB6-AC7F041B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36C-7BE4-494C-B042-B6352BFF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77A0-C92C-4841-B8EE-81E5FAAD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FB8-354D-4EE0-AC94-466EDC0C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A601-21CD-4375-BF0C-A1D9561902F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Junho/20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34800" y="8244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" descr=""/>
          <p:cNvPicPr/>
          <p:nvPr/>
        </p:nvPicPr>
        <p:blipFill>
          <a:blip r:embed="rId1"/>
          <a:stretch/>
        </p:blipFill>
        <p:spPr>
          <a:xfrm>
            <a:off x="423720" y="730080"/>
            <a:ext cx="11344320" cy="539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-57240" y="0"/>
            <a:ext cx="12192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agem 1" descr=""/>
          <p:cNvPicPr/>
          <p:nvPr/>
        </p:nvPicPr>
        <p:blipFill>
          <a:blip r:embed="rId1"/>
          <a:stretch/>
        </p:blipFill>
        <p:spPr>
          <a:xfrm>
            <a:off x="2228760" y="1052640"/>
            <a:ext cx="773424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63520" y="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m 1" descr=""/>
          <p:cNvPicPr/>
          <p:nvPr/>
        </p:nvPicPr>
        <p:blipFill>
          <a:blip r:embed="rId1"/>
          <a:stretch/>
        </p:blipFill>
        <p:spPr>
          <a:xfrm>
            <a:off x="2228760" y="1157400"/>
            <a:ext cx="773424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63360"/>
            <a:ext cx="12192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3360" y="62355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m 1" descr=""/>
          <p:cNvPicPr/>
          <p:nvPr/>
        </p:nvPicPr>
        <p:blipFill>
          <a:blip r:embed="rId1"/>
          <a:stretch/>
        </p:blipFill>
        <p:spPr>
          <a:xfrm>
            <a:off x="1528920" y="711360"/>
            <a:ext cx="9134280" cy="53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147600"/>
            <a:ext cx="12134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1920" y="625788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tretch/>
        </p:blipFill>
        <p:spPr>
          <a:xfrm>
            <a:off x="1528920" y="1082520"/>
            <a:ext cx="91342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8440"/>
            <a:ext cx="121921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20 (IN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1"/>
          <a:stretch/>
        </p:blipFill>
        <p:spPr>
          <a:xfrm>
            <a:off x="1528920" y="1049400"/>
            <a:ext cx="99057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2560" y="104760"/>
            <a:ext cx="121395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2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agem 1" descr=""/>
          <p:cNvPicPr/>
          <p:nvPr/>
        </p:nvPicPr>
        <p:blipFill>
          <a:blip r:embed="rId1"/>
          <a:stretch/>
        </p:blipFill>
        <p:spPr>
          <a:xfrm>
            <a:off x="804960" y="873000"/>
            <a:ext cx="10352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39680"/>
            <a:ext cx="12192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11 a Junho/2020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m 1" descr=""/>
          <p:cNvPicPr/>
          <p:nvPr/>
        </p:nvPicPr>
        <p:blipFill>
          <a:blip r:embed="rId1"/>
          <a:stretch/>
        </p:blipFill>
        <p:spPr>
          <a:xfrm>
            <a:off x="544680" y="896760"/>
            <a:ext cx="108140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6600" y="0"/>
            <a:ext cx="12042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11 a Junho/2020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m 1" descr=""/>
          <p:cNvPicPr/>
          <p:nvPr/>
        </p:nvPicPr>
        <p:blipFill>
          <a:blip r:embed="rId1"/>
          <a:stretch/>
        </p:blipFill>
        <p:spPr>
          <a:xfrm>
            <a:off x="1528920" y="763560"/>
            <a:ext cx="10156680" cy="52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219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Administrados pelo INS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9, Maio/2020 e Junho/202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a Cidadan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m 2" descr=""/>
          <p:cNvPicPr/>
          <p:nvPr/>
        </p:nvPicPr>
        <p:blipFill>
          <a:blip r:embed="rId1"/>
          <a:stretch/>
        </p:blipFill>
        <p:spPr>
          <a:xfrm>
            <a:off x="503280" y="433440"/>
            <a:ext cx="1116648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541440"/>
            <a:ext cx="1219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11 e Junho de 2020, a quantidade de benefícios previdenciários e acidentários emitidos pela Previdência aumentou 22,7%, passando de 25,2 milhões para 30,9 milhõ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680" y="122400"/>
            <a:ext cx="1218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o INSS</a:t>
            </a:r>
            <a:r>
              <a:rPr b="1" i="1" lang="pt-BR" sz="1600" spc="-1" strike="noStrike">
                <a:solidFill>
                  <a:srgbClr val="ed7d3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11 a 2019 (dezembro), 2020 (Junh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6026040"/>
            <a:ext cx="78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a Cidadan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m 1" descr=""/>
          <p:cNvPicPr/>
          <p:nvPr/>
        </p:nvPicPr>
        <p:blipFill>
          <a:blip r:embed="rId1"/>
          <a:stretch/>
        </p:blipFill>
        <p:spPr>
          <a:xfrm>
            <a:off x="260280" y="998640"/>
            <a:ext cx="117442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60480"/>
            <a:ext cx="1210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o INSS (2013 a 2020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66840" y="546120"/>
            <a:ext cx="11544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650,81 na média de Janeiro a Junho de 2020, o que representou um crescimento de 27,4% em relação ao mesmo períod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27,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187800" y="5229360"/>
            <a:ext cx="3375000" cy="63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6"/>
          <p:cNvSpPr/>
          <p:nvPr/>
        </p:nvSpPr>
        <p:spPr>
          <a:xfrm flipH="1">
            <a:off x="7608960" y="2558880"/>
            <a:ext cx="3271680" cy="2533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2240" y="63118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m 1" descr=""/>
          <p:cNvPicPr/>
          <p:nvPr/>
        </p:nvPicPr>
        <p:blipFill>
          <a:blip r:embed="rId1"/>
          <a:stretch/>
        </p:blipFill>
        <p:spPr>
          <a:xfrm>
            <a:off x="444600" y="1249200"/>
            <a:ext cx="1129968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09440" y="6080040"/>
            <a:ext cx="760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729320" y="15858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7,3% dos benefícios pagos pelo INSS em Junho/2020 possuíam o valor de até um salário mínimo, o que representa um contingente de 24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84120" y="163440"/>
            <a:ext cx="1080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m 1" descr=""/>
          <p:cNvPicPr/>
          <p:nvPr/>
        </p:nvPicPr>
        <p:blipFill>
          <a:blip r:embed="rId1"/>
          <a:stretch/>
        </p:blipFill>
        <p:spPr>
          <a:xfrm>
            <a:off x="217440" y="763560"/>
            <a:ext cx="1162836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69840"/>
            <a:ext cx="12192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1815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299880" y="1219320"/>
            <a:ext cx="1159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12192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2406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299880" y="1209600"/>
            <a:ext cx="11592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12192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6320" y="605808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781200" y="1552680"/>
            <a:ext cx="106297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87480"/>
            <a:ext cx="12192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61722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781200" y="1571760"/>
            <a:ext cx="10629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12840" y="63360"/>
            <a:ext cx="108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62895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1"/>
          <a:stretch/>
        </p:blipFill>
        <p:spPr>
          <a:xfrm>
            <a:off x="423720" y="771480"/>
            <a:ext cx="113443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Colegiado</cp:lastModifiedBy>
  <dcterms:modified xsi:type="dcterms:W3CDTF">2020-07-29T19:19:46Z</dcterms:modified>
  <cp:revision>47</cp:revision>
  <dc:subject/>
  <dc:title>Apresentação do PowerPoint</dc:title>
</cp:coreProperties>
</file>